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lap.wav" ContentType="audio/x-wav"/>
  <Override PartName="/ppt/media/image3.wmf" ContentType="image/x-wmf"/>
  <Override PartName="/ppt/media/whoosh.wav" ContentType="audio/x-wav"/>
  <Override PartName="/ppt/media/image4.wmf" ContentType="image/x-wmf"/>
  <Override PartName="/ppt/media/camera.wav" ContentType="audio/x-wav"/>
  <Override PartName="/ppt/media/image5.wmf" ContentType="image/x-wmf"/>
  <Override PartName="/ppt/media/cashreg.wav" ContentType="audio/x-wav"/>
  <Override PartName="/ppt/media/driveby.wav" ContentType="audio/x-wav"/>
  <Override PartName="/ppt/media/projctor.wav" ContentType="audio/x-wav"/>
  <Override PartName="/ppt/media/chimes.wav" ContentType="audio/x-wav"/>
  <Override PartName="/ppt/media/typ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0FC64-F68F-4070-BF56-EEF9234C428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ill you retur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e trunk being sen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Adve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can scarcely believe my eyes. ( 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miliar Adverb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JECTIVES &amp; ADVERB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DJECTI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OF AN ADJECTIV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hip was an English vessel. (what ki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factory is mine. (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eople enjoy the annual dinner. (how many, which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DVERB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YPES OF ADVERB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 moved quietly. (Manner and tell ho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waited there for an hour. (Place and tell whe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ay leave soon. (Time, tells wh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called you once. (Number, tells how man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sat very still. (Degree, tells how muc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rogative Adverb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9273-84BE-4FEB-B12A-42F4154FB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2592-6AE4-460A-90C0-E9B54F1E1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68C-33FA-4069-8430-5A8413D5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7FA3E-F928-4C28-BD53-2CC10F7C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DD102-D469-466E-873F-DD30DC62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F6EB-D9EE-4F44-B97A-DAD1BD9C5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01F7-C20C-422D-A37C-F2756052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89C2-D27F-466C-A820-6A1763A2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6BB7-AF7B-4199-8AFE-2616B3CEF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4872A-7D89-459C-9DB8-F80CEBB44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1E92-5C05-467B-8409-5DC82030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9B14-EDB5-4BE0-8667-19E1DFEB3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2AA68-D39A-4A67-AB75-3165F1EF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D1838-8A6A-4AE6-BBF0-D5AE61D4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04E1-F892-4614-AAB7-F555B9B7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676FA-DE20-46C1-8143-8DDAF28F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F65A-777D-45C0-8D84-D56133572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7543-D3E1-47A5-B9AF-FBB3D559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DD15-E6D1-45C2-80D6-04748466C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0DE7-E35E-4AF2-AEE1-E461AF72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827E-805E-436A-AA0E-4DD65E2C3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0DD2-975A-4B2E-84E9-1F0E9876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5E82-8FA5-4B1E-B3D2-8C2E2348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36FD-A331-4AF3-937A-C70E1F391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12B58-306F-4FDA-82B8-492D79C40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B5CC-8B49-49C1-B359-68E9D83AE8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lap.wav"/><Relationship Id="rId4" Type="http://schemas.openxmlformats.org/officeDocument/2006/relationships/audio" Target="../media/clap.wav"/><Relationship Id="rId5" Type="http://schemas.openxmlformats.org/officeDocument/2006/relationships/audio" Target="../media/clap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4800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0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98" name="Picture 5" descr="pe03254_"/>
          <p:cNvPicPr/>
          <p:nvPr/>
        </p:nvPicPr>
        <p:blipFill>
          <a:blip r:embed="rId1"/>
          <a:stretch/>
        </p:blipFill>
        <p:spPr>
          <a:xfrm>
            <a:off x="3429000" y="838080"/>
            <a:ext cx="268452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Whe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you retur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trunk being s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Negative Adverb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nies or contradicts a stat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, not , never, only, scarcely and hard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e:  two negative adverbs should not be used toget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1" dur="5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c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carce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ieve my eyes. ( 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I haven’t no more sea shells. (incorrec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Familiar Adverbs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o Know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mo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do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usual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rtainly    hardly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ite     so    usually    just  rather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ry     rather     fairly    nearly     to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rcely    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0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" presetSubtype="8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41500"/>
                            </p:stCondLst>
                            <p:childTnLst>
                              <p:par>
                                <p:cTn id="257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20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10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 &amp; ADVERBS 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2576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LES TO FOL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DJECTIVE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2361960"/>
            <a:ext cx="7620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Pronou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DEFINITION OF AN ADJECTIVE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tells what kind of person, place, or thing.  A noun or a pronoun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may also point out which one or how man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was an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essel. (what kin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actory is mine. (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an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enjoy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nu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inner. (how many, which o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4" descr="tn00333_"/>
          <p:cNvPicPr/>
          <p:nvPr/>
        </p:nvPicPr>
        <p:blipFill>
          <a:blip r:embed="rId1"/>
          <a:stretch/>
        </p:blipFill>
        <p:spPr>
          <a:xfrm>
            <a:off x="4114800" y="2362320"/>
            <a:ext cx="1158840" cy="16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AN ADVERB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ies an active verb or a verb phrase by expressing manner, place, time, degree, or numb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TYPES OF ADVERB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rogativ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Object 4"/>
          <p:cNvGraphicFramePr/>
          <p:nvPr/>
        </p:nvGraphicFramePr>
        <p:xfrm>
          <a:off x="1066680" y="533520"/>
          <a:ext cx="1219320" cy="87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533520"/>
                    <a:ext cx="1219320" cy="8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XAMPLES: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e mov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quietl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Manner and tell h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wai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e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or an hour. (Place and tell wher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may leav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Time, tells wh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called you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(Number, tells how man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 sat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ve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till. (Degree, tells how much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Interrogative Adverb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es a sentence that asks a ques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, when, why and h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Object 4"/>
          <p:cNvGraphicFramePr/>
          <p:nvPr/>
        </p:nvGraphicFramePr>
        <p:xfrm>
          <a:off x="1143000" y="304920"/>
          <a:ext cx="1830240" cy="131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04920"/>
                    <a:ext cx="1830240" cy="13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1" dur="5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3T23:16:01Z</dcterms:created>
  <dc:creator>Tim Williams</dc:creator>
  <dc:description/>
  <dc:language>en-US</dc:language>
  <cp:lastModifiedBy>RomaK</cp:lastModifiedBy>
  <dcterms:modified xsi:type="dcterms:W3CDTF">2015-09-02T09:30:39Z</dcterms:modified>
  <cp:revision>7</cp:revision>
  <dc:subject/>
  <dc:title>adjectives and adverbs</dc:title>
</cp:coreProperties>
</file>